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3.pct" ContentType="image/x-pict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211-CE95-4283-A540-63A154D1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0E4-AC4D-4C89-9937-DBAA08E3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405-0889-4FEC-A444-0969B285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FA0-1663-4C1E-A071-4B42E043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33C5-1066-487E-8A80-53BE0FEC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54A7-5AA9-42C4-891F-736F9F54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776E-1C44-4C3B-A562-B4E4D7E2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6607-1D92-4F88-8C5B-C16BF4CF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D9C7-EAA7-4B3E-839F-3AB07067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F2F0-D1E7-4ADA-8E7C-632E366B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F7C1-DD56-4CA4-83F4-AB52251E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A6A-C565-45C1-B635-5E4AE30E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D588-26C6-4656-8A6D-419B9104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C50B-841D-4BD1-AE16-A36BC4A1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7E3C-7F40-4079-921F-A6FC2F0B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AD6E-F7AC-4FE3-A2DC-D1E914F5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1473-4C53-420F-90B4-DDEC5B2F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BB5-C66D-4A85-9874-655CB010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4E5-5102-4CF6-B467-7F18A53A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119A-7D7C-4135-9B3C-4F6619CB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911-26A0-435A-A20A-A2315CB2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1B0-1965-4B6C-8718-69EB181D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518-8183-42F6-A279-FBE34F8D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837-5892-4B5E-ACCD-C125577D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1922-29DF-4F66-B065-2D873208997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B92B-91BA-455E-90B2-C5D87BF0B48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ontex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eum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museums, vendors, related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, testbeds, awareness, education,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Future Direction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e community use of O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on with other comm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AI  Repository in a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via CIMI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harvesting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30481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800" spc="-1" strike="noStrike">
                <a:solidFill>
                  <a:srgbClr val="115546"/>
                </a:solidFill>
                <a:latin typeface="Arial"/>
              </a:rPr>
              <a:t>http://www.cimi.org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52280" y="0"/>
            <a:ext cx="8762400" cy="762120"/>
            <a:chOff x="152280" y="0"/>
            <a:chExt cx="8762400" cy="762120"/>
          </a:xfrm>
        </p:grpSpPr>
        <p:pic>
          <p:nvPicPr>
            <p:cNvPr id="177" name="bannerdots" descr=""/>
            <p:cNvPicPr/>
            <p:nvPr/>
          </p:nvPicPr>
          <p:blipFill>
            <a:blip r:embed="rId1"/>
            <a:stretch/>
          </p:blipFill>
          <p:spPr>
            <a:xfrm>
              <a:off x="152280" y="0"/>
              <a:ext cx="864072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bannercimi" descr=""/>
            <p:cNvPicPr/>
            <p:nvPr/>
          </p:nvPicPr>
          <p:blipFill>
            <a:blip r:embed="rId2"/>
            <a:stretch/>
          </p:blipFill>
          <p:spPr>
            <a:xfrm>
              <a:off x="273600" y="228600"/>
              <a:ext cx="581112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bannerwords" descr=""/>
            <p:cNvPicPr/>
            <p:nvPr/>
          </p:nvPicPr>
          <p:blipFill>
            <a:blip r:embed="rId3"/>
            <a:stretch/>
          </p:blipFill>
          <p:spPr>
            <a:xfrm>
              <a:off x="3103560" y="628560"/>
              <a:ext cx="5811120" cy="133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ontex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 for Interchange &amp;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39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s for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GML,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data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 for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for rich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Interest in OAI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AI as access enabling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Simple, low barrier asse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to evaluate D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friendly with OAI 1.0 for muse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museums us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ollection provided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MI DC testb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eum objects and deriv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,000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museu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609480"/>
            <a:ext cx="4330800" cy="5639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25960" y="1346040"/>
            <a:ext cx="3124080" cy="476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72600" y="1974960"/>
            <a:ext cx="18806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Museum</a:t>
            </a:r>
            <a:br>
              <a:rPr sz="3600"/>
            </a:b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Meta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590920" y="457200"/>
            <a:ext cx="3568680" cy="42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echnical Infrastruc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AP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hangeabl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AI-Compliant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HTTP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pplication Roadmap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1828800"/>
            <a:ext cx="3733560" cy="5335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Apache 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2666880"/>
            <a:ext cx="3733560" cy="5335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Apache J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3505320"/>
            <a:ext cx="3733560" cy="53316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CIMI OAI-HTTP 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4343400"/>
            <a:ext cx="3733560" cy="5335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CIMI OAI Repository API_x0008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5257800"/>
            <a:ext cx="3733560" cy="7621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Referenc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Of API Using My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0" idx="2"/>
            <a:endCxn id="161" idx="0"/>
          </p:cNvCxnSpPr>
          <p:nvPr/>
        </p:nvCxnSpPr>
        <p:spPr>
          <a:xfrm>
            <a:off x="3771720" y="2362320"/>
            <a:ext cx="108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6" name=""/>
          <p:cNvCxnSpPr>
            <a:stCxn id="161" idx="2"/>
            <a:endCxn id="162" idx="0"/>
          </p:cNvCxnSpPr>
          <p:nvPr/>
        </p:nvCxnSpPr>
        <p:spPr>
          <a:xfrm>
            <a:off x="3771720" y="32000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7" name=""/>
          <p:cNvCxnSpPr>
            <a:stCxn id="162" idx="2"/>
            <a:endCxn id="163" idx="0"/>
          </p:cNvCxnSpPr>
          <p:nvPr/>
        </p:nvCxnSpPr>
        <p:spPr>
          <a:xfrm>
            <a:off x="3771720" y="403812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8" name=""/>
          <p:cNvCxnSpPr>
            <a:stCxn id="163" idx="2"/>
            <a:endCxn id="164" idx="0"/>
          </p:cNvCxnSpPr>
          <p:nvPr/>
        </p:nvCxnSpPr>
        <p:spPr>
          <a:xfrm>
            <a:off x="3771720" y="4876920"/>
            <a:ext cx="108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Development Proces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Java API for OAMS-Compliant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Java Servlet to Interface Between HTTP/OAI Protocol Layers and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ote Reference Implementation of OAMS-Compliant Repository using JDBC and 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Issues With Implementatio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Query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Securit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0:56Z</dcterms:created>
  <dc:creator>Thomas Hofmann</dc:creator>
  <dc:description/>
  <dc:language>en-US</dc:language>
  <cp:lastModifiedBy>John Perkins</cp:lastModifiedBy>
  <cp:lastPrinted>1999-04-29T14:22:04Z</cp:lastPrinted>
  <dcterms:modified xsi:type="dcterms:W3CDTF">2001-01-24T05:38:47Z</dcterms:modified>
  <cp:revision>211</cp:revision>
  <dc:subject>Dublin Core</dc:subject>
  <dc:title>Using Dublin Core in Museums</dc:title>
</cp:coreProperties>
</file>